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34E-C6F8-451C-9BB3-9495638A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48A6-0C27-4F02-80B5-FDB7C177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9BE-F877-4CE2-B650-5D73E367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1B0-43A8-4048-A1D6-E538BB1E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6B9-C948-4318-9785-1A94E616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1AD-97DF-4414-8734-CE9FA53A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7ED4-4619-41B8-A5DF-AB7E0873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538-3F16-4744-9378-05472F50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B9BE-1DB2-4C64-AF7E-7372AE36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D96-A2EB-48A4-9052-23275FB4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017-7418-4ACD-927E-8E7BF99E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AF0-97DF-416D-94B0-49EC9540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2AEF-626B-4356-9C38-E6CB403E5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-612720" y="0"/>
            <a:ext cx="97567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02840" y="595440"/>
            <a:ext cx="8806680" cy="1849320"/>
          </a:xfrm>
          <a:prstGeom prst="rect">
            <a:avLst/>
          </a:prstGeom>
          <a:noFill/>
          <a:ln w="0">
            <a:noFill/>
          </a:ln>
          <a:effectLst>
            <a:outerShdw dist="77353" dir="56247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99cc00"/>
                </a:solidFill>
                <a:latin typeface="Monotype Corsiva"/>
              </a:rPr>
              <a:t>Измий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сърцето м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532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7360" cy="11493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-169560" y="1521000"/>
            <a:ext cx="9024480" cy="28825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във Твоята  нежн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11700" spc="-1" strike="noStrike">
                <a:solidFill>
                  <a:srgbClr val="99cc00"/>
                </a:solidFill>
                <a:latin typeface="Monotype Corsiva"/>
              </a:rPr>
              <a:t>любов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6384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038960" y="5065560"/>
            <a:ext cx="1079676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800" spc="-1" strike="noStrike">
                <a:solidFill>
                  <a:srgbClr val="99cc00"/>
                </a:solidFill>
                <a:latin typeface="Monotype Corsiva"/>
              </a:rPr>
              <a:t>Измий </a:t>
            </a: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сърцето м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0020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1360800" y="2109960"/>
            <a:ext cx="1177344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за да бъда </a:t>
            </a:r>
            <a:r>
              <a:rPr b="1" lang="bg-BG" sz="9600" spc="-1" strike="noStrike">
                <a:solidFill>
                  <a:srgbClr val="99cc00"/>
                </a:solidFill>
                <a:latin typeface="Monotype Corsiva"/>
              </a:rPr>
              <a:t>чист</a:t>
            </a: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кат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bg-BG" sz="9600" spc="-1" strike="noStrike">
                <a:solidFill>
                  <a:srgbClr val="99cc00"/>
                </a:solidFill>
                <a:latin typeface="Monotype Corsiva"/>
              </a:rPr>
              <a:t>росата</a:t>
            </a:r>
            <a:r>
              <a:rPr b="1" lang="bg-BG" sz="6600" spc="-1" strike="noStrike">
                <a:solidFill>
                  <a:srgbClr val="99cc00"/>
                </a:solidFill>
                <a:latin typeface="Monotype Corsiva"/>
              </a:rPr>
              <a:t>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бя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28480" y="173160"/>
            <a:ext cx="93765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Измий </a:t>
            </a:r>
            <a:r>
              <a:rPr b="1" lang="bg-BG" sz="8000" spc="-1" strike="noStrike">
                <a:solidFill>
                  <a:srgbClr val="99cc00"/>
                </a:solidFill>
                <a:latin typeface="Monotype Corsiva"/>
              </a:rPr>
              <a:t>сърцето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м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1292760" y="4443480"/>
            <a:ext cx="11313720" cy="256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измий го от грех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9600" spc="-1" strike="noStrike">
                <a:solidFill>
                  <a:srgbClr val="99cc00"/>
                </a:solidFill>
                <a:latin typeface="Monotype Corsiva"/>
              </a:rPr>
              <a:t>завинаг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6560" cy="11493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936720"/>
            <a:ext cx="8748720" cy="356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Мойта душ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един </a:t>
            </a:r>
            <a:r>
              <a:rPr b="1" lang="bg-BG" sz="9600" spc="-1" strike="noStrike">
                <a:solidFill>
                  <a:srgbClr val="99cc00"/>
                </a:solidFill>
                <a:latin typeface="Monotype Corsiva"/>
              </a:rPr>
              <a:t>копнеж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зов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176720" y="4076640"/>
            <a:ext cx="6227640" cy="311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заради Те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                              </a:t>
            </a: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80480" y="4897440"/>
            <a:ext cx="43214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900" spc="-1" strike="noStrike">
                <a:solidFill>
                  <a:srgbClr val="99cc00"/>
                </a:solidFill>
                <a:latin typeface="Monotype Corsiva"/>
              </a:rPr>
              <a:t>Б</a:t>
            </a:r>
            <a:r>
              <a:rPr b="1" lang="bg-BG" sz="11700" spc="-1" strike="noStrike">
                <a:solidFill>
                  <a:srgbClr val="99cc00"/>
                </a:solidFill>
                <a:latin typeface="Monotype Corsiva"/>
              </a:rPr>
              <a:t>оже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-1773720" y="5195880"/>
            <a:ext cx="12753720" cy="1557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Аз искам </a:t>
            </a:r>
            <a:r>
              <a:rPr b="1" lang="bg-BG" sz="9600" spc="-1" strike="noStrike">
                <a:solidFill>
                  <a:srgbClr val="99cc00"/>
                </a:solidFill>
                <a:latin typeface="Monotype Corsiva"/>
              </a:rPr>
              <a:t>днес</a:t>
            </a: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 да бъд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-729000" y="195120"/>
            <a:ext cx="9588240" cy="263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да бъда </a:t>
            </a:r>
            <a:r>
              <a:rPr b="1" lang="bg-BG" sz="9600" spc="-1" strike="noStrike">
                <a:solidFill>
                  <a:srgbClr val="99cc00"/>
                </a:solidFill>
                <a:latin typeface="Monotype Corsiva"/>
              </a:rPr>
              <a:t>свят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99cc00"/>
                </a:solidFill>
                <a:latin typeface="Monotype Corsiva"/>
              </a:rPr>
              <a:t>                      </a:t>
            </a:r>
            <a:r>
              <a:rPr b="1" lang="bg-BG" sz="10600" spc="-1" strike="noStrike">
                <a:solidFill>
                  <a:srgbClr val="99cc00"/>
                </a:solidFill>
                <a:latin typeface="Monotype Corsiva"/>
              </a:rPr>
              <a:t>Б</a:t>
            </a:r>
            <a:r>
              <a:rPr b="1" lang="bg-BG" sz="14200" spc="-1" strike="noStrike">
                <a:solidFill>
                  <a:srgbClr val="99cc00"/>
                </a:solidFill>
                <a:latin typeface="Monotype Corsiva"/>
              </a:rPr>
              <a:t>оже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-74520" y="555480"/>
            <a:ext cx="102726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и в Твоите пътищ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нежно да стъпва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83680" y="1611360"/>
            <a:ext cx="10368720" cy="244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За да бъда </a:t>
            </a:r>
            <a:r>
              <a:rPr b="1" lang="bg-BG" sz="8800" spc="-1" strike="noStrike">
                <a:solidFill>
                  <a:srgbClr val="99cc00"/>
                </a:solidFill>
                <a:latin typeface="Monotype Corsiva"/>
              </a:rPr>
              <a:t>чист</a:t>
            </a:r>
            <a:r>
              <a:rPr b="1" lang="bg-BG" sz="8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кат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пречисто злат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6360" y="-28440"/>
            <a:ext cx="9180360" cy="6886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29920" y="4156200"/>
            <a:ext cx="8541360" cy="25624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във Твоята  нежн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bg-BG" sz="9600" spc="-1" strike="noStrike">
                <a:solidFill>
                  <a:srgbClr val="99cc00"/>
                </a:solidFill>
                <a:latin typeface="Monotype Corsiva"/>
              </a:rPr>
              <a:t>любов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58920" y="579600"/>
            <a:ext cx="7488360" cy="356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Измий </a:t>
            </a:r>
            <a:r>
              <a:rPr b="1" lang="bg-BG" sz="9600" spc="-1" strike="noStrike">
                <a:solidFill>
                  <a:srgbClr val="99cc00"/>
                </a:solidFill>
                <a:latin typeface="Monotype Corsiva"/>
              </a:rPr>
              <a:t>сърцето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м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4716360" y="-1271520"/>
            <a:ext cx="14617440" cy="10964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80800" y="-19080"/>
            <a:ext cx="9074880" cy="28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за да бъда </a:t>
            </a:r>
            <a:r>
              <a:rPr b="1" lang="bg-BG" sz="8800" spc="-1" strike="noStrike">
                <a:solidFill>
                  <a:srgbClr val="99cc00"/>
                </a:solidFill>
                <a:latin typeface="Monotype Corsiva"/>
              </a:rPr>
              <a:t>твой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99cc00"/>
                </a:solidFill>
                <a:latin typeface="Monotype Corsiva"/>
              </a:rPr>
              <a:t>             </a:t>
            </a:r>
            <a:r>
              <a:rPr b="1" lang="bg-BG" sz="9600" spc="-1" strike="noStrike">
                <a:solidFill>
                  <a:srgbClr val="99cc00"/>
                </a:solidFill>
                <a:latin typeface="Monotype Corsiva"/>
              </a:rPr>
              <a:t>завинаг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39320" cy="11422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-1391040" y="208080"/>
            <a:ext cx="12007080" cy="256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Мойта душ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един </a:t>
            </a:r>
            <a:r>
              <a:rPr b="1" lang="bg-BG" sz="9600" spc="-1" strike="noStrike">
                <a:solidFill>
                  <a:srgbClr val="99cc00"/>
                </a:solidFill>
                <a:latin typeface="Monotype Corsiva"/>
              </a:rPr>
              <a:t>копнеж </a:t>
            </a:r>
            <a:r>
              <a:rPr b="1" lang="bg-BG" sz="6600" spc="-1" strike="noStrike">
                <a:solidFill>
                  <a:srgbClr val="000000"/>
                </a:solidFill>
                <a:latin typeface="Monotype Corsiva"/>
              </a:rPr>
              <a:t>зов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15840" y="241200"/>
            <a:ext cx="9663120" cy="359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заради </a:t>
            </a:r>
            <a:r>
              <a:rPr b="1" lang="bg-BG" sz="8800" spc="-1" strike="noStrike">
                <a:solidFill>
                  <a:srgbClr val="99cc00"/>
                </a:solidFill>
                <a:latin typeface="Monotype Corsiva"/>
              </a:rPr>
              <a:t>Теб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r>
              <a:rPr b="1" lang="bg-BG" sz="14200" spc="-1" strike="noStrike">
                <a:solidFill>
                  <a:srgbClr val="99cc00"/>
                </a:solidFill>
                <a:latin typeface="Monotype Corsiva"/>
              </a:rPr>
              <a:t>Боже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5508360" cy="688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4360" y="0"/>
            <a:ext cx="7991280" cy="3750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Аз искам </a:t>
            </a:r>
            <a:r>
              <a:rPr b="1" lang="bg-BG" sz="8000" spc="-1" strike="noStrike">
                <a:solidFill>
                  <a:srgbClr val="99cc00"/>
                </a:solidFill>
                <a:latin typeface="Monotype Corsiva"/>
              </a:rPr>
              <a:t>днес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99cc00"/>
                </a:solidFill>
                <a:latin typeface="Monotype Corsiva"/>
              </a:rPr>
              <a:t>                      </a:t>
            </a:r>
            <a:r>
              <a:rPr b="1" lang="bg-BG" sz="8000" spc="-1" strike="noStrike">
                <a:solidFill>
                  <a:srgbClr val="99cc00"/>
                </a:solidFill>
                <a:latin typeface="Monotype Corsiva"/>
              </a:rPr>
              <a:t>да бъд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51280" y="299736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789120" y="-122400"/>
            <a:ext cx="9949320" cy="393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да бъда </a:t>
            </a:r>
            <a:r>
              <a:rPr b="1" lang="bg-BG" sz="9600" spc="-1" strike="noStrike">
                <a:solidFill>
                  <a:srgbClr val="99cc00"/>
                </a:solidFill>
                <a:latin typeface="Monotype Corsiva"/>
              </a:rPr>
              <a:t>свят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1" lang="bg-BG" sz="15600" spc="-1" strike="noStrike">
                <a:solidFill>
                  <a:srgbClr val="99cc00"/>
                </a:solidFill>
                <a:latin typeface="Monotype Corsiva"/>
              </a:rPr>
              <a:t>Боже</a:t>
            </a:r>
            <a:r>
              <a:rPr b="1" lang="bg-BG" sz="7200" spc="-1" strike="noStrike">
                <a:solidFill>
                  <a:srgbClr val="99cc00"/>
                </a:solidFill>
                <a:latin typeface="Monotype Corsiv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684440"/>
            <a:ext cx="9144000" cy="8572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577800" y="4371840"/>
            <a:ext cx="102726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и в </a:t>
            </a:r>
            <a:r>
              <a:rPr b="1" lang="bg-BG" sz="6600" spc="-1" strike="noStrike">
                <a:solidFill>
                  <a:srgbClr val="99cc00"/>
                </a:solidFill>
                <a:latin typeface="Monotype Corsiva"/>
              </a:rPr>
              <a:t>Твоите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пътищ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нежно да стъпва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6:34:28Z</dcterms:created>
  <dc:creator>TrifonTrifonow</dc:creator>
  <dc:description/>
  <dc:language>en-US</dc:language>
  <cp:lastModifiedBy>TrifonTrifonow</cp:lastModifiedBy>
  <dcterms:modified xsi:type="dcterms:W3CDTF">2005-12-15T06:35:00Z</dcterms:modified>
  <cp:revision>1</cp:revision>
  <dc:subject/>
  <dc:title>Slide 1</dc:title>
</cp:coreProperties>
</file>